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31E8B-0B08-4781-8F96-3C4D55FCD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D0B67-9E0E-448B-9894-2A48F215D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4E8B6-348D-43BD-A9F2-8A783F904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FB5ED-897D-4A2F-8459-F2299FF51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491E8-FEB5-430F-984B-E06C0E17B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9F01B-5B4A-4F4A-808D-0FD1FE258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C5BBD-31AA-4776-BF35-D879AA604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23742-80D7-4C43-AA16-FF7A608FD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ED12C-4D40-4183-8E61-B69E5A699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95AA7-6B2F-4B41-AC02-B7BB362AD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3F5C3-1841-4776-A219-BA3900152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44173-350D-4967-8719-AA0FF05D8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ffffff">
              <a:alpha val="73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solidFill>
            <a:srgbClr val="ffffff">
              <a:alpha val="71000"/>
            </a:srgbClr>
          </a:solid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2C60A-B422-4BD4-829F-4DA6989EAE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solidFill>
            <a:srgbClr val="ffffff">
              <a:alpha val="73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W1 Trench video diar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solidFill>
            <a:srgbClr val="ffffff">
              <a:alpha val="71000"/>
            </a:srgbClr>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ing your scri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solidFill>
            <a:srgbClr val="ffffff">
              <a:alpha val="73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ints to remember</a:t>
            </a:r>
            <a:endParaRPr b="0" lang="en-US" sz="4400" spc="-1" strike="noStrike">
              <a:solidFill>
                <a:srgbClr val="000000"/>
              </a:solidFill>
              <a:latin typeface="Arial"/>
            </a:endParaRPr>
          </a:p>
        </p:txBody>
      </p:sp>
      <p:sp>
        <p:nvSpPr>
          <p:cNvPr id="44" name="PlaceHolder 2"/>
          <p:cNvSpPr>
            <a:spLocks noGrp="1"/>
          </p:cNvSpPr>
          <p:nvPr>
            <p:ph/>
          </p:nvPr>
        </p:nvSpPr>
        <p:spPr>
          <a:xfrm>
            <a:off x="685800" y="1981080"/>
            <a:ext cx="7772400" cy="4114800"/>
          </a:xfrm>
          <a:prstGeom prst="rect">
            <a:avLst/>
          </a:prstGeom>
          <a:solidFill>
            <a:srgbClr val="ffffff">
              <a:alpha val="71000"/>
            </a:srgbClr>
          </a:solid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script must be hand written in your boo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should reflect the research that is also written in your boo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hould try and include ‘actions’ such as pauses, emphasis etc in your draf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solidFill>
            <a:srgbClr val="ffffff">
              <a:alpha val="73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a:t>
            </a:r>
            <a:endParaRPr b="0" lang="en-US" sz="4400" spc="-1" strike="noStrike">
              <a:solidFill>
                <a:srgbClr val="000000"/>
              </a:solidFill>
              <a:latin typeface="Arial"/>
            </a:endParaRPr>
          </a:p>
        </p:txBody>
      </p:sp>
      <p:sp>
        <p:nvSpPr>
          <p:cNvPr id="46" name="PlaceHolder 2"/>
          <p:cNvSpPr>
            <a:spLocks noGrp="1"/>
          </p:cNvSpPr>
          <p:nvPr>
            <p:ph/>
          </p:nvPr>
        </p:nvSpPr>
        <p:spPr>
          <a:xfrm>
            <a:off x="685800" y="1981080"/>
            <a:ext cx="7772400" cy="4572000"/>
          </a:xfrm>
          <a:prstGeom prst="rect">
            <a:avLst/>
          </a:prstGeom>
          <a:solidFill>
            <a:srgbClr val="ffffff">
              <a:alpha val="71000"/>
            </a:srgbClr>
          </a:solid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decide where and when your diary is being filmed: what exact time and date? Write this dow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decide upon the main things you want to include in your script and the order in which you will include them, use the script checklist at the Wiki to help you. Bullet point these main things in the correct ord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solidFill>
            <a:srgbClr val="ffffff">
              <a:alpha val="73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n…</a:t>
            </a:r>
            <a:endParaRPr b="0" lang="en-US" sz="44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solidFill>
            <a:srgbClr val="ffffff">
              <a:alpha val="71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your speech, paying special attention to inclusion of specific details, keywords and creating an ‘authentic’ exper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the end of the lesson you should be in a position to film your diary for home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lwich</cp:lastModifiedBy>
  <dcterms:modified xsi:type="dcterms:W3CDTF">2007-11-22T06:17:46Z</dcterms:modified>
  <cp:revision>1</cp:revision>
  <dc:subject/>
  <dc:title>WW1 Trench video diary</dc:title>
</cp:coreProperties>
</file>